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11.jpeg" ContentType="image/jpeg"/>
  <Override PartName="/ppt/media/image7.jpeg" ContentType="image/jpeg"/>
  <Override PartName="/ppt/media/image9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758D9-904D-4007-9F3D-FB1AF64F99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kids are sensitive to allergens (say: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lur-jenz), substances that cause allergic reactions in the airways. Common allergens for kids with asthma include dust mites (tiny bugs that live in dust), mold (if you've ever been in a damp basement and smelled something funny, it was probably mold), and pollen (from trees, grass, and wee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kids are sensitive to allergens (say: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lur-jenz), substances that cause allergic reactions in the airways. Common allergens for kids with asthma include dust mites (tiny bugs that live in dust), mold (if you've ever been in a damp basement and smelled something funny, it was probably mold), and pollen (from trees, grass, and wee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kids are sensitive to allergens (say: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lur-jenz), substances that cause allergic reactions in the airways. Common allergens for kids with asthma include dust mites (tiny bugs that live in dust), mold (if you've ever been in a damp basement and smelled something funny, it was probably mold), and pollen (from trees, grass, and wee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kids are sensitive to allergens (say: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lur-jenz), substances that cause allergic reactions in the airways. Common allergens for kids with asthma include dust mites (tiny bugs that live in dust), mold (if you've ever been in a damp basement and smelled something funny, it was probably mold), and pollen (from trees, grass, and wee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19ECC-683B-44E7-BAFD-4BF3A7C19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4FDE2-849E-47F8-A012-AA55D88DF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0682C-3B40-4F1C-B1FB-F0DCE09CF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97EED-46EC-4B5E-B1CD-E954DC2C1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50BD6-3F30-4A90-8A65-40AF238DD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7CD6F-5E79-4781-A219-77E37F51B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B7FAD-F17A-4509-9B73-A16D96AA2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20258-792B-4293-A034-B4D8DD8E3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A44F4-D4CA-487E-86A5-1E8552100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9F5D3-6833-434F-BE2B-1F9BE445D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8DD07-1254-4D03-BBDA-E09A97CC5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94E3C-0FFB-47BC-A1CB-BD1F87D33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35038-ED1A-493F-B674-3F127308AD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2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562720" y="1066680"/>
            <a:ext cx="3276360" cy="1905120"/>
          </a:xfrm>
          <a:prstGeom prst="wedgeEllipseCallout">
            <a:avLst>
              <a:gd name="adj1" fmla="val -69717"/>
              <a:gd name="adj2" fmla="val 1966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Had some breath problem, like asthma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914400" y="2666880"/>
            <a:ext cx="5486400" cy="289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5562720" y="1066680"/>
            <a:ext cx="3276360" cy="1905120"/>
          </a:xfrm>
          <a:prstGeom prst="wedgeEllipseCallout">
            <a:avLst>
              <a:gd name="adj1" fmla="val -69717"/>
              <a:gd name="adj2" fmla="val 1966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So, what is an “Asthma Flare-Up”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685800" y="1828800"/>
            <a:ext cx="3886200" cy="2304720"/>
            <a:chOff x="685800" y="1828800"/>
            <a:chExt cx="3886200" cy="2304720"/>
          </a:xfrm>
        </p:grpSpPr>
        <p:pic>
          <p:nvPicPr>
            <p:cNvPr id="52" name="" descr=""/>
            <p:cNvPicPr/>
            <p:nvPr/>
          </p:nvPicPr>
          <p:blipFill>
            <a:blip r:embed="rId1"/>
            <a:stretch/>
          </p:blipFill>
          <p:spPr>
            <a:xfrm>
              <a:off x="685800" y="1828800"/>
              <a:ext cx="3886200" cy="23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 flipH="1">
              <a:off x="2133360" y="2600280"/>
              <a:ext cx="533160" cy="228600"/>
            </a:xfrm>
            <a:prstGeom prst="line">
              <a:avLst/>
            </a:prstGeom>
            <a:ln w="57240">
              <a:solidFill>
                <a:srgbClr val="ff9966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2057400" y="2143080"/>
              <a:ext cx="533520" cy="228600"/>
            </a:xfrm>
            <a:prstGeom prst="line">
              <a:avLst/>
            </a:prstGeom>
            <a:ln w="57240">
              <a:solidFill>
                <a:srgbClr val="ff9966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H="1">
              <a:off x="2133360" y="2867040"/>
              <a:ext cx="533160" cy="228600"/>
            </a:xfrm>
            <a:prstGeom prst="line">
              <a:avLst/>
            </a:prstGeom>
            <a:ln w="57240">
              <a:solidFill>
                <a:srgbClr val="ff9966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590920" y="2143080"/>
              <a:ext cx="533160" cy="228600"/>
            </a:xfrm>
            <a:prstGeom prst="line">
              <a:avLst/>
            </a:prstGeom>
            <a:ln w="57240">
              <a:solidFill>
                <a:srgbClr val="ff9966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590920" y="2600280"/>
              <a:ext cx="533160" cy="228600"/>
            </a:xfrm>
            <a:prstGeom prst="line">
              <a:avLst/>
            </a:prstGeom>
            <a:ln w="57240">
              <a:solidFill>
                <a:srgbClr val="ff9966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590920" y="2867040"/>
              <a:ext cx="533160" cy="228600"/>
            </a:xfrm>
            <a:prstGeom prst="line">
              <a:avLst/>
            </a:prstGeom>
            <a:ln w="57240">
              <a:solidFill>
                <a:srgbClr val="ff9966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>
            <a:off x="685800" y="4267080"/>
            <a:ext cx="373392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When you feel the airways get swollen and narrower and it becomes a lot harder for air to get in and out of the lung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It is similar to traffic jam~~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90920" y="1066680"/>
            <a:ext cx="28440" cy="1905120"/>
          </a:xfrm>
          <a:prstGeom prst="line">
            <a:avLst/>
          </a:prstGeom>
          <a:ln w="76320">
            <a:solidFill>
              <a:srgbClr val="ff9966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5562720" y="1066680"/>
            <a:ext cx="3276360" cy="1905120"/>
          </a:xfrm>
          <a:prstGeom prst="wedgeEllipseCallout">
            <a:avLst>
              <a:gd name="adj1" fmla="val -69717"/>
              <a:gd name="adj2" fmla="val 1966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What Causes an Asthma Flare-Up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09480" y="1890720"/>
            <a:ext cx="3581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638680" y="380988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Triggers of asth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143000" y="1447920"/>
            <a:ext cx="3581280" cy="35049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685800" y="1371600"/>
            <a:ext cx="2209680" cy="2057400"/>
          </a:xfrm>
          <a:prstGeom prst="cloudCallout">
            <a:avLst>
              <a:gd name="adj1" fmla="val 63648"/>
              <a:gd name="adj2" fmla="val 1087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609480" y="1890720"/>
            <a:ext cx="3581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914400" y="2125800"/>
            <a:ext cx="1800360" cy="17128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2895480" y="2438280"/>
            <a:ext cx="2343240" cy="11718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7010280" y="4572000"/>
            <a:ext cx="1225800" cy="15238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4"/>
          <a:stretch/>
        </p:blipFill>
        <p:spPr>
          <a:xfrm>
            <a:off x="2209680" y="546120"/>
            <a:ext cx="1863720" cy="189216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5"/>
          <a:stretch/>
        </p:blipFill>
        <p:spPr>
          <a:xfrm>
            <a:off x="5715000" y="4191120"/>
            <a:ext cx="868320" cy="115884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5486400" y="1219320"/>
            <a:ext cx="3200400" cy="83808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Allergens that inclu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dust mites, mold and poll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486400" y="2286000"/>
            <a:ext cx="3200400" cy="83808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Furry animals. Cats and do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990720" y="4343400"/>
            <a:ext cx="3200400" cy="83808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perfume, chalk dust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&amp; cigarette smok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990720" y="5486400"/>
            <a:ext cx="3200400" cy="83808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exercise-induced asthm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5562720" y="1066680"/>
            <a:ext cx="3276360" cy="1905120"/>
          </a:xfrm>
          <a:prstGeom prst="wedgeEllipseCallout">
            <a:avLst>
              <a:gd name="adj1" fmla="val -69717"/>
              <a:gd name="adj2" fmla="val 1966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How to treat asthma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1890720"/>
            <a:ext cx="3581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762120" y="1600200"/>
            <a:ext cx="3695760" cy="277164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5029200" y="4191120"/>
            <a:ext cx="373392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f66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Go to see the doctor, he/she will think about your own condition, and decide on the best kind of treat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66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Try to avoid the trigg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5562720" y="1066680"/>
            <a:ext cx="3276360" cy="1905120"/>
          </a:xfrm>
          <a:prstGeom prst="wedgeEllipseCallout">
            <a:avLst>
              <a:gd name="adj1" fmla="val -69717"/>
              <a:gd name="adj2" fmla="val 1966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How to take asthma medicine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09480" y="1890720"/>
            <a:ext cx="3581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447920" y="533520"/>
            <a:ext cx="1673280" cy="270504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1066680" y="3809880"/>
            <a:ext cx="2438640" cy="243864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5715000" y="396252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Inha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5181480" y="3657960"/>
            <a:ext cx="3048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Don’t worry! A lot of kids find their asthma goes away as they get olde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Plenty of Olympic athletes and other sports stars manage their asthma, but keep on playing!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562720" y="1066680"/>
            <a:ext cx="3276360" cy="1905120"/>
          </a:xfrm>
          <a:prstGeom prst="wedgeEllipseCallout">
            <a:avLst>
              <a:gd name="adj1" fmla="val -69717"/>
              <a:gd name="adj2" fmla="val 1966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How will asthma impact my life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914400" y="1676520"/>
            <a:ext cx="3886200" cy="35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4T17:33:42Z</dcterms:created>
  <dc:creator>hcai3</dc:creator>
  <dc:description/>
  <dc:language>en-US</dc:language>
  <cp:lastModifiedBy>hcai3</cp:lastModifiedBy>
  <dcterms:modified xsi:type="dcterms:W3CDTF">2007-12-04T18:38:20Z</dcterms:modified>
  <cp:revision>15</cp:revision>
  <dc:subject/>
  <dc:title>Slide 1</dc:title>
</cp:coreProperties>
</file>